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E04-8AC5-4A46-95C5-A22B2E2B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93E-A89E-45BB-B3F6-EA653B92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384-DE1F-41E7-8688-C70B3233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57E-AA78-417B-9C31-2D823AE8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E6F-85D9-4BD9-886E-4E32EB7C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21C-723D-40DB-9B08-5B774655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A5B-09C6-402E-8095-FC9C2AF1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49B-2ED8-4E87-9E92-CF3676C5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B10-159F-4085-B2DD-D83FEAB0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9A8-C86C-47E7-89F0-21BE042F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8FD9-B801-45B3-BECC-E765A95A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08C-9D9C-4B2B-9F79-76F6F0D0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A9AF-29D3-42F7-96EE-76E4F2B5087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51280" y="2552400"/>
            <a:ext cx="529272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Arial"/>
              </a:rPr>
              <a:t>Kraj Vysočina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425600" y="2398680"/>
            <a:ext cx="695628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322280" y="-1362240"/>
            <a:ext cx="6858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98600" y="3860280"/>
            <a:ext cx="360504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122560" y="2060640"/>
            <a:ext cx="7061040" cy="4797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250920" y="219240"/>
            <a:ext cx="3276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plň názvy míst v map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468360" y="996840"/>
            <a:ext cx="820908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oplň názvy míst v mapě - řeš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72000" y="1052640"/>
            <a:ext cx="2771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Žďárské v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Javoř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Švihov (Želiv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 Daleš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 Ví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 Velké Dář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 Dukov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 Pernšte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 Jihl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 Třebí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1 Havlíčkův B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2 Humpol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12144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iřaď pojmy a charakteris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hl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řebí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lhři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é Město na Mo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avlíčkův Br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kov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elená H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skáda rybníků, dříve Německý Brod, pivovar Re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ětový pohár v lyžování, výroba lyží Spo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kartáčů, agentura Dobrý 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rnické město, katakom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dovská čtvrť a bazilika sv. Prok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NESCO městská památková rezerv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derná elektrá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utní kostel sv. Jana Nepomucké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iřaď pojmy a charakteristiky - řeš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ihlava - Hornické město, katakom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ebíč - Židovská čtvrť a bazilika sv. Prok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lhřimov - Výroba kartáčů, agentura Dobrý 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č - UNESCO městská památková rezerv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é Město na Moravě - Světový pohár v lyžování, výroba lyží Sp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avlíčkův Brod - Kaskáda rybníků, dříve Německý Brod, pivovar R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ukovany - Jaderná elektrá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lená Hora - Poutní kostel sv. Jana Nepomuc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5520" y="4508280"/>
            <a:ext cx="403848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1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731880"/>
            <a:ext cx="84358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ůvodně kraj Jihlavský od r. 2001 Vysočina (krajské město Jihlav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é území leží v oblasti Českomoravské vrchoviny (Javořice 837 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 velmi řídce osídleném kraji má důležité postavení energetika (Dukovany a Dalešice), strojírenský a spotřební prů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aj je vhodný pro celoroční cestovní ruch- Nové Město na Moravě, Náměšť nad Oslavou,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ětšinu území kraje vyplňuje Českomoravská vrchovina s nejvyššími vrchy Javořice (837 m n. m.) a Devět skal (836 m n. m.).V kraji nejsou žádné nížiny, většina území leží v nadmořské výšce nad 600 m. Krajem prochází hlavní evropské rozvodí. Řeka Sázava odvádí vodu přes Vltavu a Labe do Severního moře, Svratka, Jihlava a Moravská Dyje přes Dunaj do Černého moře. Největším rybníkem kraje je Velké Dářko u Žďáru nad Sázav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očina patří k nejřidčeji osídleným krajům České republi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mátky UNESCO – městská památková rezervace Telč, poutní kostel sv. Jana Nepomuckého na Zelené hoře u Žďáru nad Sázavou a židovská čtvrť se hřbitovem a bazilikou sv. Prokopa v Třebíč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KO Žďárské vrchy a Železné h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3:23:20Z</dcterms:created>
  <dc:creator>jj</dc:creator>
  <dc:description/>
  <dc:language>en-US</dc:language>
  <cp:lastModifiedBy>Lenka Topičová</cp:lastModifiedBy>
  <dcterms:modified xsi:type="dcterms:W3CDTF">2020-04-21T11:34:59Z</dcterms:modified>
  <cp:revision>7</cp:revision>
  <dc:subject/>
  <dc:title>Kraj Vysočina - procvičování</dc:title>
</cp:coreProperties>
</file>